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274-AA14-4070-9706-17A741BD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38C-1E50-4A89-AF6A-E932E7C8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BBD-4970-4556-BE3E-8FA78873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555-4350-4AF7-878B-4612508F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D514-598C-4EF0-91A4-4C75BF65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A2CA-355B-40A6-91F6-7097C3BB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099D-081E-46F9-BB1D-0C19AE7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9A7A-8499-4A49-9C21-52C0BD23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672D-13EC-4423-AF7C-8B093B74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0600-35E0-45C5-B2C8-4C35EB12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217D-68D0-4F32-84F8-7D0571E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C40-0ED9-4D22-83EB-D7DE9A09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3BE1-42C0-408D-9746-75C6031B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AAF5-0027-41C0-A34D-E69BFBFF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1178-6238-42D0-A879-B4E3497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9F73-FEA7-4A0B-A5CE-A3FE5F2C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F356-3DE7-49A9-AC8D-F732F43C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F57-FB29-4495-A452-131F6D1C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056-8ED2-4968-B523-562D4D7B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CC82-3EBD-45F9-8012-78DAFDAA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A72-66E6-4A11-8862-49DAF378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D70-26A4-4D3C-956E-27EA7A27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300-583A-44E7-8EB5-DA2DCCA0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217-B1D1-48AA-8D58-9E7E8DCE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EAD6-3690-4DB7-89DA-B49E2A1809A2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dc893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2EA8-9602-43A6-9969-6A6D30A109C1}" type="slidenum">
              <a:rPr b="0" lang="pt-BR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129440" cy="50403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266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ÇÕES PREVISTAS EXECUTADAS </a:t>
            </a:r>
            <a:br>
              <a:rPr sz="4000"/>
            </a:b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A EXECUTAR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1890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2565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ABRI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 vídeo Linux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s vídeos PNUD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trodução à Sala de aula virtual – aula inaugural do curso de 100 hora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7/04 A 15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7/04 A 15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3/04 a 17/0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I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vulgação do curso ATAC I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aboração do Projeto do curso ATAC I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urso ATAC I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ntrega de Ficha de Freqüência e desempenho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laboração do vídeo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04/04 a 08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04/04 a 08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1/04 a 15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8/04 a 29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18/04 a 29/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JUNH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trega do projeto que será apresentado no evento – agos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 Encontro de PSTE: experiências de formação docente “professor formando professor”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9/04 a 29/0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03/0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LGUNS PONTOS PARA REFLETI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QUANTO AO CRONOGRA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NUD – problemas com relatório de uso da STE no período vespertino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ntrodução à sala de aula virtual – controvérsias nas orientações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ntrega do projeto de evento – prazos não cumpridos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QUANTO AO QUADRO DE P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nto as PLs livres como as de atividades são nas últimas aula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ão destinadas 2 aulas para o contra-turno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 aulas do vespertino são mensalmente agendadas pelo Professor da STE, porém a porcentagem de uso é baixa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63520" y="259920"/>
            <a:ext cx="7386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 professor da STE do período vespertino alega que não tem tempo para realização das atividades previstas e auxílio aos professores, porém a porcentagem de uso não ultrapassou 30% até maio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É presenciada uso constante de MSN pessoal e ORKUT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FICA ACORDADO QU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812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O Quadro de PL do professor da STE de cada mês será elaborado em comum acordo com a coordenação pedagógica e direção da escola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O envio do quadro de PL e relatório será até o 5º dia útil de cada mês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O turno que optar pelas aulas programadas, as mesmas deverão ser encaminhadas ao NTE, no quadro de PLs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Até o 10º dia útil de cada mês o Professor do NTE se reunirá com os professores da STE para discutirem as ações desenvolvidas no mês e as previstas para o mês seguinte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Os planos de aula entregue pelos professores regentes devem estar organizados em pasta, de forma cronológica e de fácil acesso, pois mensalmente o professor do NTE fará visita para conferir os relatórios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73868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Não serão consideradas as aulas registradas sem o plano do professor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Cada plano deve conter no máximo 2 aulas, mais que isso é necessário projeto de ensino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Será elaborado portfólio on-line das atividades desenvolvidas na STE para orientações pedagógicas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Os prazos de atividades previstas, não justificadas e não cumpridas serão registradas em documento próprio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As orientações serão feitas por e.mail ou pessoalmente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2f1311"/>
                </a:solidFill>
                <a:latin typeface="Arial"/>
              </a:rPr>
              <a:t>Caso o professor da STE seja questionado e não souber orientar os professores, os mesmos se comprometerão em buscar apoio junto ao professor do NTE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ada professor da STE se responsabilizará em fazer a relação dos professores que não utilizaram a STE no 1º semestre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PELO NTE - ST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BJETI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7885080" cy="5761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619280" y="414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360" y="530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S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2000" y="364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COTEC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56000" y="1989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PROFESSOR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342900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UNOS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400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UEM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OMO AVANÇAR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3593880" cy="3403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238560" cy="2095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3240000" cy="2162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572000" y="115920"/>
            <a:ext cx="354348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1º SEMESTRE</a:t>
            </a:r>
            <a:br>
              <a:rPr sz="4800"/>
            </a:b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6000" y="1653840"/>
            <a:ext cx="35528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037600" y="937800"/>
            <a:ext cx="5212080" cy="5211720"/>
            <a:chOff x="2037600" y="937800"/>
            <a:chExt cx="5212080" cy="5211720"/>
          </a:xfrm>
        </p:grpSpPr>
        <p:sp>
          <p:nvSpPr>
            <p:cNvPr id="200" name="_s77830"/>
            <p:cNvSpPr/>
            <p:nvPr/>
          </p:nvSpPr>
          <p:spPr>
            <a:xfrm>
              <a:off x="2736000" y="1636560"/>
              <a:ext cx="3815640" cy="381456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79af7d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77831"/>
            <p:cNvSpPr/>
            <p:nvPr/>
          </p:nvSpPr>
          <p:spPr>
            <a:xfrm rot="7200000">
              <a:off x="2736000" y="163548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00c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_s77832"/>
            <p:cNvSpPr/>
            <p:nvPr/>
          </p:nvSpPr>
          <p:spPr>
            <a:xfrm rot="14400000">
              <a:off x="2736360" y="1635840"/>
              <a:ext cx="3814560" cy="381564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cc99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_s77833"/>
            <p:cNvSpPr/>
            <p:nvPr/>
          </p:nvSpPr>
          <p:spPr>
            <a:xfrm>
              <a:off x="543852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TEC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77834"/>
            <p:cNvSpPr/>
            <p:nvPr/>
          </p:nvSpPr>
          <p:spPr>
            <a:xfrm>
              <a:off x="4062240" y="4550760"/>
              <a:ext cx="11635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77835"/>
            <p:cNvSpPr/>
            <p:nvPr/>
          </p:nvSpPr>
          <p:spPr>
            <a:xfrm>
              <a:off x="2685600" y="2167200"/>
              <a:ext cx="1163520" cy="11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TE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2700360" y="6381720"/>
          <a:ext cx="40384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381720"/>
                    <a:ext cx="40384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FEVEREIRO  - 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Reunião com os professores das STE e professores multiplicadores do N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isita às escolas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Orientação a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març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evereiro – dezemb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(executada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1598760"/>
            <a:ext cx="3879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Acompanhamento das atividades desenvolvidas pelos PSTE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Curso informática básica – Linux ou Windows (S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Projeto Brasil Ponto a Ponto (S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a dezembr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 – mai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rço – abri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urso Tecnologias na Educação: ensinando e aprendendo com as TIC (N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rojetos para I Encontro PSTE (ST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bril – outubr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Maio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( concluído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TAC II – Ambientes Tecnológicos de Aprendizagem Colaborativa e Proinfo integrad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f1311"/>
                </a:solidFill>
                <a:latin typeface="Arial"/>
              </a:rPr>
              <a:t>Acompanhamento das atividades programadas nos projetos de ensino (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Jun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io – junho – julh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(em andament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PELA STE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ARÇ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1311"/>
                </a:solidFill>
                <a:latin typeface="Arial"/>
              </a:rPr>
              <a:t>Levantamento dos professores que desejam fazer o curso LINUX e ATAC I</a:t>
            </a:r>
            <a:r>
              <a:rPr b="0" lang="pt-PT" sz="2000" spc="-1" strike="noStrike">
                <a:solidFill>
                  <a:srgbClr val="2f1311"/>
                </a:solidFill>
                <a:latin typeface="Arial"/>
              </a:rPr>
              <a:t>;</a:t>
            </a: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Redação para sugestão no Programa das Nações Unidas para o Desenvolvimento – Brasil Ponto a Ponto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2f1311"/>
                </a:solidFill>
                <a:latin typeface="Arial"/>
              </a:rPr>
              <a:t>Curso LINUX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3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 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09/03 a 13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16/03 a 20/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f1311"/>
                </a:solidFill>
                <a:latin typeface="Arial"/>
              </a:rPr>
              <a:t>(concluíd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TE/NOVA ANDRADINA</a:t>
            </a: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12:47Z</dcterms:created>
  <dc:creator>Windows</dc:creator>
  <dc:description/>
  <dc:language>en-US</dc:language>
  <cp:lastModifiedBy>SEDMS</cp:lastModifiedBy>
  <dcterms:modified xsi:type="dcterms:W3CDTF">2009-07-06T20:18:09Z</dcterms:modified>
  <cp:revision>54</cp:revision>
  <dc:subject/>
  <dc:title>TECNOLOGIAS NA ESCOLA</dc:title>
</cp:coreProperties>
</file>